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258F-14D5-4008-AF40-AF2C6369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4EB-3264-4EA3-9B52-48F04286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0E0-0D03-4070-9DF6-8D074DE0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46E-8951-4801-BF5F-197A9642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DE8-F147-4D0C-840F-D6E1BB95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63D-BD43-4417-AE7D-DA0DA98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DE6-E3E8-49F3-9329-96FD203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4A2-BC47-40F2-85EE-703380BD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4BD-D778-4511-80EB-529DABA6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FFC-AC29-4FB1-A153-C12C223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870-18EF-4547-803E-8D7706CD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9AB-2CD9-446A-9DEE-80A8DD4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5B73-6BC8-4A9F-B2F4-F4EAF5FBD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JK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job with this…lots of qualit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thought put into this.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ll-written.  Some grammar and spelling issue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 too much dependence on the powerpoint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2:47:50Z</dcterms:created>
  <dc:creator>nbdoe</dc:creator>
  <dc:description/>
  <dc:language>en-US</dc:language>
  <cp:lastModifiedBy>nbdoe</cp:lastModifiedBy>
  <dcterms:modified xsi:type="dcterms:W3CDTF">2007-05-11T12:47:56Z</dcterms:modified>
  <cp:revision>1</cp:revision>
  <dc:subject/>
  <dc:title>Election 2007</dc:title>
</cp:coreProperties>
</file>